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460-C06A-4643-8657-9A7EAD18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6DB-1C3E-45BF-A426-EADB07E5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AD8B-1705-4965-AE96-17E1B23C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D8AA-569C-451A-A810-8722F9B5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8AEB-6107-4141-B2A8-E5295C0C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1278-6E7D-49BE-9622-42F1F831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94B3-31DC-4B92-A439-0454A3E7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C106-6072-42A0-B296-9FD406CB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B584-1D83-4D5B-8E33-51A3D0DA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1E4D-0F50-4CA9-BFF5-217CC479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64C1-6117-4B1A-9C18-E3BFE75A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AB1B-B49B-4069-BA66-CD044EED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7B6D-3219-4185-B4D4-19D5C1CE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3A2B-56F0-448B-A0F0-58C1F1D4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99AB-EB5D-4297-9705-298D2227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DB25-3AF2-4037-A7FB-D744690B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FE6F-ECE1-41E4-988B-6FA84C2A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D3F48-79DC-4CAA-93B4-4FA28D61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46DDC-F1E9-482B-9842-C1DFE861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893D6C-9F2B-4D60-B2DF-55C84DD5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506ED-D4F3-40A4-BF8D-DB9F1F43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6A1D3-ECD7-419D-97D5-E9F8ECC1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DA1-44C2-4DC2-9779-AE85DF2B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C0B54-1E45-4F0C-B9A7-53C8D25A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6D0A6-70DC-4371-B45F-46842003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27A02-5C2D-49FC-8FDD-3BC05CC7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B63B9-4632-4490-907F-A4F92970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9035A-5BCB-4243-A1EC-21A4F1CE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9C868-F938-436F-AF79-46F956BB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4BBD74-9AAE-44D4-AC18-8A4914DD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54C-656A-4780-BF44-6C187AD8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0D3-35DE-4E18-89B8-3A8DC79C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769-230D-4F71-82F3-004C3B49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8D1-20DB-4017-841E-0C4C8CC4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DB7C-0772-4D90-96F2-56BEEAFF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E8F-BB72-4D0E-99DE-A4D692B6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2EF7-B9F1-45FD-A698-3967DE2D8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79B7-624B-4A84-8A62-2B089F449C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439A-21D1-4BE3-A744-C47F9A5118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توازي الأضلاع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654520" y="14461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3736800"/>
            <a:ext cx="8810640" cy="299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3027240"/>
            <a:ext cx="4103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22840" y="1260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91120" y="554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ر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80172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27000"/>
            <a:ext cx="8282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51640" y="292428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02280" y="15112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خام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5320" y="22050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080" y="233208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توازى وتساوى ضلعان متقابلان ف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299736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ث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53960" y="2975040"/>
            <a:ext cx="40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-82440" y="3654360"/>
            <a:ext cx="5249880" cy="2649240"/>
            <a:chOff x="-82440" y="3654360"/>
            <a:chExt cx="5249880" cy="2649240"/>
          </a:xfrm>
        </p:grpSpPr>
        <p:sp>
          <p:nvSpPr>
            <p:cNvPr id="358" name=""/>
            <p:cNvSpPr/>
            <p:nvPr/>
          </p:nvSpPr>
          <p:spPr>
            <a:xfrm flipH="1">
              <a:off x="1547280" y="41497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44120" y="58561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830760" y="414972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64640" y="413856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55640" y="414972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932200" y="3968640"/>
              <a:ext cx="341280" cy="363600"/>
              <a:chOff x="2932200" y="3968640"/>
              <a:chExt cx="341280" cy="363600"/>
            </a:xfrm>
          </p:grpSpPr>
          <p:sp>
            <p:nvSpPr>
              <p:cNvPr id="364" name=""/>
              <p:cNvSpPr/>
              <p:nvPr/>
            </p:nvSpPr>
            <p:spPr>
              <a:xfrm>
                <a:off x="2932200" y="396864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79800" y="39733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222640" y="5665680"/>
              <a:ext cx="342720" cy="363600"/>
              <a:chOff x="2222640" y="5665680"/>
              <a:chExt cx="342720" cy="363600"/>
            </a:xfrm>
          </p:grpSpPr>
          <p:sp>
            <p:nvSpPr>
              <p:cNvPr id="367" name=""/>
              <p:cNvSpPr/>
              <p:nvPr/>
            </p:nvSpPr>
            <p:spPr>
              <a:xfrm>
                <a:off x="2371680" y="56656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22640" y="567072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375080" y="39639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8000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19080" y="36543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82440" y="551664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240" y="50846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81560" y="43862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4519440" y="3778200"/>
            <a:ext cx="4500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6164280"/>
            <a:ext cx="1150920" cy="549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14960" y="6083280"/>
            <a:ext cx="11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2924280"/>
            <a:ext cx="889308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0"/>
            <a:ext cx="889308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-396720" y="-41400"/>
            <a:ext cx="5249880" cy="2649240"/>
            <a:chOff x="-396720" y="-41400"/>
            <a:chExt cx="5249880" cy="2649240"/>
          </a:xfrm>
        </p:grpSpPr>
        <p:sp>
          <p:nvSpPr>
            <p:cNvPr id="381" name=""/>
            <p:cNvSpPr/>
            <p:nvPr/>
          </p:nvSpPr>
          <p:spPr>
            <a:xfrm flipH="1">
              <a:off x="1233000" y="4539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29840" y="21603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516480" y="45396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50360" y="44280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41360" y="45396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2617920" y="272880"/>
              <a:ext cx="341280" cy="363600"/>
              <a:chOff x="2617920" y="272880"/>
              <a:chExt cx="341280" cy="363600"/>
            </a:xfrm>
          </p:grpSpPr>
          <p:sp>
            <p:nvSpPr>
              <p:cNvPr id="387" name=""/>
              <p:cNvSpPr/>
              <p:nvPr/>
            </p:nvSpPr>
            <p:spPr>
              <a:xfrm>
                <a:off x="2617920" y="2728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765520" y="27756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908360" y="1969920"/>
              <a:ext cx="342720" cy="363600"/>
              <a:chOff x="1908360" y="1969920"/>
              <a:chExt cx="342720" cy="363600"/>
            </a:xfrm>
          </p:grpSpPr>
          <p:sp>
            <p:nvSpPr>
              <p:cNvPr id="390" name=""/>
              <p:cNvSpPr/>
              <p:nvPr/>
            </p:nvSpPr>
            <p:spPr>
              <a:xfrm>
                <a:off x="2057400" y="19699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08360" y="197496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060800" y="2682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65720" y="19652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4800" y="-414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-396720" y="18208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9960" y="13888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7280" y="6904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22920" y="1778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ب ا ؟ ج  = د ج ؟ ا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l-KsorZulfiMath"/>
              </a:rPr>
              <a:t>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37160" y="8287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هما زاويتان متبادلت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6320" y="15825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إ ا ب  ] د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99080" y="22384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، بم  ا د ] ب &lt;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معط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7400" y="292428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40440" y="370044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4603680"/>
            <a:ext cx="8893080" cy="225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38680" y="4619520"/>
            <a:ext cx="40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19440" y="5445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266760" y="4452840"/>
            <a:ext cx="6267600" cy="2674080"/>
            <a:chOff x="-266760" y="4452840"/>
            <a:chExt cx="6267600" cy="2674080"/>
          </a:xfrm>
        </p:grpSpPr>
        <p:sp>
          <p:nvSpPr>
            <p:cNvPr id="408" name=""/>
            <p:cNvSpPr/>
            <p:nvPr/>
          </p:nvSpPr>
          <p:spPr>
            <a:xfrm>
              <a:off x="1619280" y="489744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4360" y="6453360"/>
              <a:ext cx="453528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8436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27672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4869000"/>
              <a:ext cx="100800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352680" y="5978520"/>
              <a:ext cx="454320" cy="503280"/>
              <a:chOff x="3352680" y="5978520"/>
              <a:chExt cx="454320" cy="503280"/>
            </a:xfrm>
          </p:grpSpPr>
          <p:sp>
            <p:nvSpPr>
              <p:cNvPr id="414" name=""/>
              <p:cNvSpPr/>
              <p:nvPr/>
            </p:nvSpPr>
            <p:spPr>
              <a:xfrm>
                <a:off x="3352680" y="6043680"/>
                <a:ext cx="454320" cy="4316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64000" y="5978520"/>
                <a:ext cx="239760" cy="503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710240" y="5999040"/>
              <a:ext cx="553680" cy="476280"/>
              <a:chOff x="4710240" y="5999040"/>
              <a:chExt cx="553680" cy="47628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710240" y="6060600"/>
                <a:ext cx="553680" cy="4082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714200" y="5999040"/>
                <a:ext cx="292320" cy="476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971640" y="5589720"/>
              <a:ext cx="28728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06720" y="6299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09880" y="469584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11480" y="630396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36960" y="4697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26676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51280" y="461340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6640" y="44528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8440" y="636264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812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572000" y="5538960"/>
              <a:ext cx="21600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90960" y="2187720"/>
            <a:ext cx="1225440" cy="79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38160" y="0"/>
            <a:ext cx="9144000" cy="22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00440" y="88920"/>
            <a:ext cx="4500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-304920" y="-209520"/>
            <a:ext cx="6267600" cy="2673720"/>
            <a:chOff x="-304920" y="-209520"/>
            <a:chExt cx="6267600" cy="2673720"/>
          </a:xfrm>
        </p:grpSpPr>
        <p:sp>
          <p:nvSpPr>
            <p:cNvPr id="434" name=""/>
            <p:cNvSpPr/>
            <p:nvPr/>
          </p:nvSpPr>
          <p:spPr>
            <a:xfrm>
              <a:off x="1581120" y="23472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46200" y="1790280"/>
              <a:ext cx="4535280" cy="7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620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23856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73480" y="206280"/>
              <a:ext cx="1008000" cy="1584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314520" y="1315800"/>
              <a:ext cx="454320" cy="502920"/>
              <a:chOff x="3314520" y="1315800"/>
              <a:chExt cx="454320" cy="502920"/>
            </a:xfrm>
          </p:grpSpPr>
          <p:sp>
            <p:nvSpPr>
              <p:cNvPr id="440" name=""/>
              <p:cNvSpPr/>
              <p:nvPr/>
            </p:nvSpPr>
            <p:spPr>
              <a:xfrm>
                <a:off x="3314520" y="1380600"/>
                <a:ext cx="454320" cy="4312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25840" y="1315800"/>
                <a:ext cx="239760" cy="502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672080" y="1336320"/>
              <a:ext cx="553680" cy="475920"/>
              <a:chOff x="4672080" y="1336320"/>
              <a:chExt cx="553680" cy="4759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4672080" y="1397880"/>
                <a:ext cx="553680" cy="4078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76040" y="1336320"/>
                <a:ext cx="292320" cy="475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933480" y="927000"/>
              <a:ext cx="28728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68560" y="1636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1720" y="3312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73320" y="164124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8800" y="34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-30492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13120" y="-4896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480" y="-20952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0280" y="169992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0996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533840" y="876240"/>
              <a:ext cx="21600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689280" y="22464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80" y="3006720"/>
            <a:ext cx="9144000" cy="38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3280" y="342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ه ؟  = ا ب ؟ 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342900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4149720"/>
            <a:ext cx="381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411804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59320" y="479736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ك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7400" y="551664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0440" y="618480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755640" y="692280"/>
            <a:ext cx="7993080" cy="5400720"/>
          </a:xfrm>
          <a:prstGeom prst="flowChartMultidocumen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7640" y="184464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وإلى اللقا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5640" y="3573360"/>
            <a:ext cx="46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rial"/>
              </a:rPr>
              <a:t>محمد السي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3456000"/>
            <a:ext cx="806436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160" y="1519200"/>
            <a:ext cx="820764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836640"/>
            <a:ext cx="2340000" cy="863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0"/>
            <a:ext cx="3600360" cy="83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38440" y="2232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66ff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13720" y="863640"/>
            <a:ext cx="19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عريف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557360"/>
            <a:ext cx="8351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متوازي الأضلاع هو شكل رباعي فيه 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ضلعان متقابلان متوازيان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1400" y="395604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55480" y="561168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62120" y="3956040"/>
            <a:ext cx="1295640" cy="16556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95440" y="3933720"/>
            <a:ext cx="1295280" cy="1656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7800" y="36687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6880" y="55404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7760" y="5611680"/>
            <a:ext cx="9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0880" y="3257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19640" y="3782880"/>
            <a:ext cx="1276920" cy="1998720"/>
            <a:chOff x="3419640" y="3782880"/>
            <a:chExt cx="1276920" cy="1998720"/>
          </a:xfrm>
        </p:grpSpPr>
        <p:grpSp>
          <p:nvGrpSpPr>
            <p:cNvPr id="183" name=""/>
            <p:cNvGrpSpPr/>
            <p:nvPr/>
          </p:nvGrpSpPr>
          <p:grpSpPr>
            <a:xfrm>
              <a:off x="4356000" y="3782880"/>
              <a:ext cx="340560" cy="363600"/>
              <a:chOff x="4356000" y="3782880"/>
              <a:chExt cx="340560" cy="363600"/>
            </a:xfrm>
          </p:grpSpPr>
          <p:sp>
            <p:nvSpPr>
              <p:cNvPr id="184" name=""/>
              <p:cNvSpPr/>
              <p:nvPr/>
            </p:nvSpPr>
            <p:spPr>
              <a:xfrm>
                <a:off x="4356000" y="378288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03240" y="378756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419640" y="5418000"/>
              <a:ext cx="342720" cy="363600"/>
              <a:chOff x="3419640" y="5418000"/>
              <a:chExt cx="342720" cy="363600"/>
            </a:xfrm>
          </p:grpSpPr>
          <p:sp>
            <p:nvSpPr>
              <p:cNvPr id="187" name=""/>
              <p:cNvSpPr/>
              <p:nvPr/>
            </p:nvSpPr>
            <p:spPr>
              <a:xfrm>
                <a:off x="3568680" y="541800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19640" y="542304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824840" y="4567680"/>
            <a:ext cx="4336560" cy="403560"/>
            <a:chOff x="1824840" y="4567680"/>
            <a:chExt cx="4336560" cy="403560"/>
          </a:xfrm>
        </p:grpSpPr>
        <p:sp>
          <p:nvSpPr>
            <p:cNvPr id="190" name=""/>
            <p:cNvSpPr/>
            <p:nvPr/>
          </p:nvSpPr>
          <p:spPr>
            <a:xfrm rot="1119000">
              <a:off x="185220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119000">
              <a:off x="562896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19280" y="591804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66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480" y="4417920"/>
            <a:ext cx="8893080" cy="24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7360" y="2708280"/>
            <a:ext cx="8893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907920"/>
            <a:ext cx="8893440" cy="17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24200" y="66600"/>
            <a:ext cx="4681440" cy="6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78200" y="0"/>
            <a:ext cx="49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خواص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4640" y="1052640"/>
            <a:ext cx="627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3760" y="2924280"/>
            <a:ext cx="67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قابلتان متساويت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1840" y="45673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9280" y="1217520"/>
            <a:ext cx="2300040" cy="1130400"/>
            <a:chOff x="179280" y="1217520"/>
            <a:chExt cx="2300040" cy="1130400"/>
          </a:xfrm>
        </p:grpSpPr>
        <p:sp>
          <p:nvSpPr>
            <p:cNvPr id="202" name=""/>
            <p:cNvSpPr/>
            <p:nvPr/>
          </p:nvSpPr>
          <p:spPr>
            <a:xfrm>
              <a:off x="606240" y="12175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9280" y="23479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0080" y="1201680"/>
            <a:ext cx="2282400" cy="1152360"/>
            <a:chOff x="190080" y="1201680"/>
            <a:chExt cx="2282400" cy="1152360"/>
          </a:xfrm>
        </p:grpSpPr>
        <p:sp>
          <p:nvSpPr>
            <p:cNvPr id="205" name=""/>
            <p:cNvSpPr/>
            <p:nvPr/>
          </p:nvSpPr>
          <p:spPr>
            <a:xfrm flipH="1">
              <a:off x="203940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9008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76360" y="2924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4320" y="3684600"/>
            <a:ext cx="86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080" y="3033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0640" y="388944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222200">
            <a:off x="632520" y="306792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9360" y="5157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1680" y="5157720"/>
            <a:ext cx="2592360" cy="1224000"/>
            <a:chOff x="301680" y="5157720"/>
            <a:chExt cx="2592360" cy="1224000"/>
          </a:xfrm>
        </p:grpSpPr>
        <p:sp>
          <p:nvSpPr>
            <p:cNvPr id="214" name=""/>
            <p:cNvSpPr/>
            <p:nvPr/>
          </p:nvSpPr>
          <p:spPr>
            <a:xfrm>
              <a:off x="949320" y="5180040"/>
              <a:ext cx="1297080" cy="115092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01680" y="5157720"/>
              <a:ext cx="2592360" cy="12240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060640" y="58737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869000"/>
            <a:ext cx="9144000" cy="19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4040" y="4060800"/>
            <a:ext cx="865080" cy="865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80" y="814320"/>
            <a:ext cx="9144000" cy="340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8000" y="-133200"/>
            <a:ext cx="2556000" cy="1197000"/>
          </a:xfrm>
          <a:prstGeom prst="irregularSeal1">
            <a:avLst/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4000" y="11124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مث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0" y="9129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ي الشكل المقابل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وازي أضلا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ه :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ا ؟ 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%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حسب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ب ؟   ،  ج ؟  ،  د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836640"/>
            <a:ext cx="5067360" cy="3005640"/>
            <a:chOff x="0" y="836640"/>
            <a:chExt cx="5067360" cy="3005640"/>
          </a:xfrm>
        </p:grpSpPr>
        <p:sp>
          <p:nvSpPr>
            <p:cNvPr id="224" name=""/>
            <p:cNvSpPr/>
            <p:nvPr/>
          </p:nvSpPr>
          <p:spPr>
            <a:xfrm>
              <a:off x="25200" y="3078000"/>
              <a:ext cx="8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040" y="1484280"/>
              <a:ext cx="4105440" cy="1728720"/>
            </a:xfrm>
            <a:prstGeom prst="parallelogram">
              <a:avLst>
                <a:gd name="adj" fmla="val 59371"/>
              </a:avLst>
            </a:prstGeom>
            <a:solidFill>
              <a:srgbClr val="8def99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43360" y="119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400" y="30686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800" y="836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5640" y="1535040"/>
              <a:ext cx="1511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8120" y="1412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6478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160" y="2587680"/>
              <a:ext cx="12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492360" y="4094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1440" y="543888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880" y="6095880"/>
            <a:ext cx="735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63400" y="4552920"/>
            <a:ext cx="8209080" cy="23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57880" y="4156200"/>
            <a:ext cx="1079280" cy="792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960" y="12682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360" y="6397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-270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-4752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692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66672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62532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6560" y="131616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1254240"/>
            <a:ext cx="165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122076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5040" y="1916280"/>
            <a:ext cx="8209080" cy="23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95880" y="198900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1920" y="1763640"/>
            <a:ext cx="5248080" cy="2550240"/>
            <a:chOff x="331920" y="1763640"/>
            <a:chExt cx="5248080" cy="2550240"/>
          </a:xfrm>
        </p:grpSpPr>
        <p:sp>
          <p:nvSpPr>
            <p:cNvPr id="252" name=""/>
            <p:cNvSpPr/>
            <p:nvPr/>
          </p:nvSpPr>
          <p:spPr>
            <a:xfrm>
              <a:off x="755640" y="2349360"/>
              <a:ext cx="4032360" cy="1295640"/>
            </a:xfrm>
            <a:prstGeom prst="parallelogram">
              <a:avLst>
                <a:gd name="adj" fmla="val 77806"/>
              </a:avLst>
            </a:prstGeom>
            <a:solidFill>
              <a:srgbClr val="ffff00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2880" y="176364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01680" y="17794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5280" y="3357720"/>
              <a:ext cx="86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1920" y="35496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70200" y="1768320"/>
              <a:ext cx="201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7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2200" y="2637000"/>
              <a:ext cx="201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284720" y="2708280"/>
            <a:ext cx="453708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توا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أضلاع أحسب محيطه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71880" y="40924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0200" y="5438880"/>
            <a:ext cx="862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60958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4842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8040" y="19810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13255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6699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-64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3760" y="58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أي مضلع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2360" y="576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جموع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360" y="123984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1989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9692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3577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فيه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3860640"/>
            <a:ext cx="50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وجد قياس زواياه الأخر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65300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0832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52560" y="523404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1440" y="595476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9640" y="4919760"/>
            <a:ext cx="820908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13320" y="0"/>
            <a:ext cx="73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1040" y="69228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579600"/>
            <a:ext cx="62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0400" y="13827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1403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64000" y="13892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7360" y="134784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1040" y="20304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8120" y="209232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2019240"/>
            <a:ext cx="188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98800" y="199872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2600" y="2692440"/>
            <a:ext cx="820872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9720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680" y="328140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طول محيطه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00" y="386064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،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احسب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4653000"/>
            <a:ext cx="180000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92640" y="45766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52736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صف المحي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22840" y="593892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25360" y="52052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ول + الع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43280" y="59626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6922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62064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4960" y="6033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3636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72280" y="1335240"/>
            <a:ext cx="90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0494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201600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198900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7640" y="20336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27417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27255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43640" y="270828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269892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900000" y="3644640"/>
            <a:ext cx="7344000" cy="2879640"/>
          </a:xfrm>
          <a:prstGeom prst="upArrowCallout">
            <a:avLst>
              <a:gd name="adj1" fmla="val 63764"/>
              <a:gd name="adj2" fmla="val 63758"/>
              <a:gd name="adj3" fmla="val 16667"/>
              <a:gd name="adj4" fmla="val 66660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16200000"/>
          </a:gra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800" y="3683160"/>
            <a:ext cx="7273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نتقل الآن إلى الحالات التي يك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ها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3560" y="57564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89440" y="49417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3560" y="429264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08520" y="36115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2160" y="302436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51640" y="237492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7320" y="1204920"/>
            <a:ext cx="8209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-19080"/>
            <a:ext cx="5977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146376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كون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 الحالات الآ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19044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حالات التي يكون فيها الش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2764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أ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315612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71628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81120" y="446400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0720" y="50450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لث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7840" y="593244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ت 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7:01:31Z</dcterms:created>
  <dc:creator>sa</dc:creator>
  <dc:description/>
  <dc:language>en-US</dc:language>
  <cp:lastModifiedBy>Windows XP</cp:lastModifiedBy>
  <dcterms:modified xsi:type="dcterms:W3CDTF">2007-06-16T21:53:54Z</dcterms:modified>
  <cp:revision>11</cp:revision>
  <dc:subject/>
  <dc:title>الشريحة 1</dc:title>
</cp:coreProperties>
</file>